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5ADA48-1199-4D51-91BC-2D29DFD5C3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698B8-DAD0-4ABB-94E3-1BCE7A1E5E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7AA18-C5A2-41BF-AF53-074E138FC3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8539DC-4323-473A-BB07-B8EBCDDA60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8266C-ACBA-4905-AABE-292AF8BF48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71F37B-11F7-4C52-AFF9-3D7461FE71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1A507-A089-4D15-9F23-038110E059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7009E-CB78-43F7-B892-CD197EE44C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B950B-A2F7-4D69-B1F2-6A9939713F9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BCCCA-98C9-4907-9D04-DCE5A470D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941B-5785-44B1-A1A7-109D175ED1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F230-C632-49C6-B997-9ED42AE745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F522-8BEC-4ABC-80A4-55A53DDACBF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D6E1-D6A8-41ED-B375-3104A53F4C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4987-8EED-4096-BAE5-1DA683115D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CD29-7EFA-4322-AAF8-C75D56153F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B1C90-5461-4904-A719-2E74F22427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59E0-91AD-4020-9B0D-9B84FBA345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3D13-E9D0-4D1A-8D3C-53995D902B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9118-C725-42A7-AE87-457DE5224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74BD-1E51-456E-953E-F099EEE437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58F31-252C-4340-8AC8-3BB04F0204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C2EB8-8FF3-4478-BDF8-82017E7C54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94578-C03B-4911-BC22-8A1A005E25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A0892-D6B5-4380-936E-EACB83EEDA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4B489-CDFB-44DB-92BE-9E9F977973B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96D3B-03CD-4E22-9FE9-6670DE19BC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6E9B9-37B2-44DB-A291-8D76DC3D1B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40B4B-2FCD-4E17-A214-D484E1593C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54401-582D-41FD-85E7-9F5884A48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1BDC-B410-45B1-A331-57FA943D03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00F03-B896-4833-B045-DD13625164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ED03B-2F62-4F05-9166-292532B81E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973F1-B6F6-44BA-9AD9-C28C8F651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7F26-B3E8-45D4-AA53-83265A568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3BBA-F7F3-40A6-AD60-E62FE20C74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44C6-D447-4F42-8559-D428063429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9AC2-B076-4E41-8C37-6897279580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9FE0-276E-4A58-B916-0DFA09FED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74DA-2693-498D-8791-45CA9F9D1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8681-32C5-4FE8-BD81-2E369AEF71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8BAF-DC8D-4965-9EC4-5565018977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0482-9267-4F28-91EE-94AB5A4BCC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BB4D-D860-4001-9CE8-7A0E912DB0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FE29-83C6-47B9-B288-348DCED62E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FA0E7-5F63-43DF-B723-8F917AD4D5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43BC1-3D8B-4BA4-A1F9-75F1A2822B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B0513-6341-4079-B5FF-97A2D2ABC4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CEA95-7F3D-4344-A1B5-A9ABAD32AE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33602-1B27-4082-B019-B4BAAAC5F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AD66-53AD-404A-909F-F8A8A07CB8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6A47-7BA8-4E82-A1CB-2B34B00B49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AB2C-2AF6-4B7B-8AD3-58E960334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2B5CC-C7BF-4E96-9C96-617906EAE5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03CB5-7715-4434-A198-A94F1D5E9E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DBDA9-8D92-42D8-99B8-20A5025BD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CF322-C765-4141-94E2-D6445AD5E5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584-F82A-40C6-911F-F023AEF977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30C-EDD9-49B0-A001-0D11AE3936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0C5-A555-4E55-87DF-8BAFE3C84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3BEE-D81A-42AD-9474-2351A51912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7D5F-7389-4991-A457-9860874092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B12-1CAD-44F1-B0E4-C50DADC613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B01-76C9-42FC-B537-C094E82615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BE2-5257-4505-B098-9CC93C6B35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1BF-3092-4140-9BDE-78B803C586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8D1-89BF-40BD-A10A-A5649770CC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3807-4E08-4AE8-8E8C-A75E50E8B5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1CB6-89B1-40D3-BB2A-8DBE34F258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82A33-09CE-4322-AE7A-1DC430D72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CBF2E-FCB3-4963-B528-07845DE261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D7401-01B7-4B11-91B9-4604E74361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C2466-228D-4904-9E82-2D19099E5F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C32C7-52D9-4433-9C3F-2421366D9F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1E6D3-4F80-4DA1-8050-38B7A2BE89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8E140-01F5-4188-B04C-3CA08AA295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12E15-1601-4244-B522-2AD6454BCB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AB4F9-396C-499A-9188-3E29314DC0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7A453-9B48-43D4-ABA6-19F568E2A0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F9E78-8F59-4D08-A1B1-D0E7D7B2E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648D9-D690-4ED6-8669-3F968756F5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9EFBD-9B60-4764-B684-C9671DE7B6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787D1-30C4-4476-ACC2-352B599E3C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C6D81-7EC1-4E87-9470-3DF360F66B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D749D-CAC1-4F84-B68C-6F9E543294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5117F-15F7-403B-A4B3-BEDC0F00F5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06E69-5F8F-4547-8B60-E22500812A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10BD9-7A28-4BF1-9E89-147D3F4B5B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6A706-7356-4679-8315-949B9E5986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37B58-B855-4180-A22A-3671BD6FE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39939-3EE4-4139-9DE7-908142A3CD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BB7F7-7DDC-45BC-A4D4-42B5DFA87A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FE8D4-F6EF-469B-B4EB-3EAF239A23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3BF8-6853-4F78-B421-20B43B9195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1D3B-07F1-44CB-B94D-22B697F1FE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E450-4998-42DB-9462-361C0C1398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9D55-0A06-40F2-9239-9D35CD6FFB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CD69-7F57-498F-A4D6-DF3C99F8FB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BD52-B304-40BD-B5C0-64ED233D21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2F74-C176-4078-912C-574FB10CA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11DA-073F-4394-A2A6-C4C476692E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942C-F09B-4225-86B7-02518A7D6A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7EB2-E419-44D4-9D47-1E22F00037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152D-2592-4560-98D9-B2C070D9A6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7B0D-E237-4167-B176-DF20A3BE54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EC8A7-0E41-4449-9487-8647018D92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63B60-4D3E-4459-8BED-0D0B303F18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3906A-F10E-45A7-920D-54DC14BCBA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BF2E1-C0B1-47D9-A1E3-7F336766AB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98115-2A50-461E-AC34-957618E54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25903-F3B0-4FD2-9C61-63B98BBC20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B809E-BEA7-4FCE-9858-38CB203AEF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55BC5-A639-4E39-BD79-BD2105F000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909B1-D218-448A-B493-60EE3F819E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7A8F6-894D-4EE2-A9F8-1A79CDF3C7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E8FBD-2696-42F5-99CF-E14A6F87616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0B792-9AB8-4BFA-B299-9707F13775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6548F-6735-46AC-828B-AA2712DE92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A724D-78E5-419E-8099-760EB3920B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D1F25-7875-4FB5-ADAE-9E1C1BE0C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121D-C905-4B85-9F67-2EE0BA393C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F81-7D1F-4EAC-A7D2-39557A0025A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8D6-291E-4080-B8CD-46EFCE60903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D8C1-959C-4D40-AE41-E37115481C3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CEF-0CA5-4306-9980-C067A6E6FB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921-BE99-42AC-AEBA-8F4F1C1D41F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E35-BC1B-4F6B-8670-843BB90B6AC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3CAB-CC98-4403-8CD1-14A7BF583DB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BEAD-A303-45BE-9777-E38A4D2A9B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3F2-9AFE-4C9A-9268-819B06912A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Software e grafica per il we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i: Umberto Toli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WEB 2.0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rso è orientato a studenti che sappiano manipolare contenuti digitali mediante i software grafici di base poiché, durante le ore a disposizione, si approfondiranno maggiormente le variabili progettuali che intervengono durante lo sviluppo di un progetto web complesso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i dedicherà molta attenzione allo stato dell'arte, alla struttura delle informazioni, alla progettazione dell'interfaccia, alla redazione dei contenuti e alla comprensione dei nuovi tool di sviluppo online, fino ad arrivare all'organizzazione di gruppi di lavoro che diventeranno micro redazioni in grado di realizzare la loro webzine attraverso revisioni programmate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Verdana"/>
              </a:rPr>
              <a:t>www.wannad.i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Umberto Tolino</cp:lastModifiedBy>
  <cp:lastPrinted>2003-05-08T11:08:41Z</cp:lastPrinted>
  <dcterms:modified xsi:type="dcterms:W3CDTF">2014-07-26T18:17:29Z</dcterms:modified>
  <cp:revision>207</cp:revision>
  <dc:subject/>
  <dc:title>Inserire immagine della locandina, possibilmente in trasparenza e aggiungere Facoltà di Architettura Illustrazione prova di ammissione prof. Silvia Piardi (idem Cedolin)</dc:title>
</cp:coreProperties>
</file>